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ABE-FAA1-4E66-9955-F0EEDB37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1AB-A904-45E4-914B-0405D105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E2684-52D0-4AC0-8647-FB7C413F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4E5AF-0CFE-43A8-97AF-CD6D5984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51763-5BC9-408A-8EB6-F89CFA9B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B9D49-D19E-4FD1-9E9B-43AA049C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F6F10-874F-4AD4-85D7-78191D8E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29344-A542-41C7-8E26-0F22E884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463D9-C6B9-4E03-9BEE-0C15CFD4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69BD0-AD53-4018-B6B1-783F9963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AB642-ACD6-4FEA-BD20-3953A4EF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722E6-3ED0-4629-BE94-EB02BA31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735-7917-4B58-9B00-5385D948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B2FAF-CB54-49C5-87B1-26E927B5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E4FD3-B44E-4ED6-AB8B-0EFB069C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5021A-CFEC-4F41-B4C4-EF5AE90C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771C2-E4EE-4434-9FC1-5D5B91DE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9272C-4233-404D-B77B-C9FAE726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71E97-75F2-4D5A-88D7-4CD5151D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16C21-3475-4D39-8DCF-C0ACEA7A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D2704-687F-4AC3-9AA3-26629E5A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C07D5-90E3-4757-873C-65B063FF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BA33D-2B2D-49B5-929A-3DB79533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D0A-A937-4DD9-8FF6-6CD6937C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F2BFC-5065-465E-8646-99CDB9FE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EBFEC-37B5-4A1C-B013-C6399C9F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21E8A-363B-4129-B1F7-83B89AE9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5EA37-B40C-4C30-A0E8-F8B68376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63DCF-C55A-4224-99B6-B0B20E11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F21F2-562F-4895-AA9E-00808ABB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9EDE1-5062-4F1D-9638-7E08FAF0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B22E0-2C6C-4C53-9571-D06D4E5B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7D819-50FD-4F6D-A941-F3394D2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FF15C-7650-4701-BB32-C6C425F0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525A-5764-4C5A-A185-9632108E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672DA-FEDE-47BC-97B8-F9E3EBE5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9E079-68D6-4403-96EC-178BEE98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A37F3-36E4-4714-B2BD-983163DA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606BD-D778-4681-B5C8-B64976F8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B80FC-56D4-41F4-8376-B6B6E72B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8353D-BFD5-4B47-A076-2981B4B6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10F52-4073-47A2-B47D-AE7E6EF5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64A3D-3158-47E3-BD69-96ABB221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5559C-3159-4EB3-B0F1-76B1FBCF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DC8C2-CCDB-443D-9FB7-B94B94B1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A60B-8081-4200-A0E7-036269D4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27370-0428-401D-A271-1E76A29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10445-40BC-4174-A789-1835FBAF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69FCD-8CEE-487E-B25D-9D75432D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C14C2-364B-4D87-9E80-2FED264D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6D27A-6D07-428A-9903-6DA6A9FD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618F8-6677-49F7-83A0-FBD59159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7F8F6-FC20-46A5-A57C-5E7FEB57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724B5-CCF7-4E1B-9A14-EF5BA030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F223B-1BD3-482A-8265-0590E866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B59EA-2DA9-4B65-93BA-C9B94929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51B5-441F-40DA-8754-D899E6C8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EE5F5-AABB-457B-A901-18286B28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B97B4-0AF1-4827-894B-1C1A83E8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8D416-28F7-406D-BBD2-03159D5D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85D70-4990-4147-BFD1-E4380736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3610A-565F-4B5B-AF5B-184DD404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FAAF3-BDAC-4A0E-8D8A-12BF0E85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F7BCF-AE54-43CE-8CC4-1040FB6E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FFF43-A9F6-4C93-8273-F77F3035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51D25-4463-4872-B39C-CB4B8809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9B26D-DE68-4658-A52F-38AB75D4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8EAC-113F-4CD6-B21D-F7594A26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148D9-98F8-41A4-ADC3-02D3C0CA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B3C5F-0AFD-442E-9944-E128CC4D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4FC3A-BAB4-41A4-BA13-D6963C84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65D04-E215-4F53-9008-701AC181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3D567-E2B4-403F-877F-0799CA67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5BB30-E39B-41B5-A777-A902482E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84A4E-D283-421A-AF01-DFAD5323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FAC62-AB12-44F1-BFB7-535D6E18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86557-CB42-4365-BF04-F04123C3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6D9D-1902-42C1-A9B1-D0E8CEC8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9DF8-8FDF-43C6-9EB6-666E7DA1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81A9-F512-4185-BBB4-EA225742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FF0-3F64-4F56-9C89-D5E88D60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2807-78AE-4130-B0E7-E703A98B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7867-0A14-45DD-B8BC-9D17370A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EFAC-A4E5-4D31-82BE-5500A692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1F5C-A264-4307-B51A-1D2B45C4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CF9F-6DE1-4123-8568-AB9E6F5F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3ADD-0731-44B8-98C3-13B64A7A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7E25-9015-4060-ACDA-0D2CE1C1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3EB0-FEE0-4C1B-88D4-CD45F2BB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8129-E527-45F1-99CD-4E3A8DB8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FD84-5289-4144-BBC2-9E9CDA10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782-1D78-4ADA-9C08-F4818C72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31099-5CEB-4841-82AE-B21A8FB6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52C2-3CF9-41D0-A1DB-2BED564D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5FE83-EC4C-4116-A1F1-4C286014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21BC-BBAC-41C0-9188-D96FF1D5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9FB7-92CF-4F40-AD0B-4B700132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9321-E9FA-4026-9E66-AED36DE1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51C9-D2F6-4660-ADED-64B3A911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31A65-0A1F-4519-8DE4-9139137E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2071-171E-4D21-A1D7-B6A972C2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C0C45-E602-49FE-8A6D-433530F5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F14-0774-4B2B-82EA-1B3B7F01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EFD6-5CC6-4F21-A5DF-C5FA498C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682C-3437-476E-BABC-E7C17C22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BDD9-0D94-4399-8B4B-6D08A39C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A9DC-239F-40E8-BE39-7470B75E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3E5BB-AE4D-48C8-8ACE-3A3D1CFB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DF83-2B9D-4D85-9CCD-0D8DFB55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D6C20-C5FB-4E9F-BBAA-4513BB52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FDF0F-75E5-42F1-BEC5-0B7B3A98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364F-3F66-4958-A573-D1C45CD6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31832-52A4-4E69-9FDF-46965F52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02A-6BB4-45BB-A0B9-DCB0CB8F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C7689-D3A5-42A6-ADCD-E8619AB7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901ED-A560-4334-B0A6-B3E3D26A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B050E-4C85-4CF0-87D1-8FEED0FA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2B654-D8F3-45DD-A50D-55D14A93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AFE46-BB83-4D57-9237-11BE01DB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3161-0D98-4AB9-A9C4-08D7DF40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A3212-D982-4B9E-8591-3AC1D1A1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252DC-396A-42DD-A5D8-FDCD8531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6EA8B-406B-46B0-A0FA-3E3993D9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BC03C-649A-4944-A0DF-AFD90F7D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864-3E5F-475E-B76A-62AABA63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569CB-4DDA-4DBB-AC41-92004CBD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B3707-1595-4C59-A389-42854B2B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E1292-90EF-4C91-86E6-1AF535C9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9B2B-948B-422C-A355-F9EA831C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B209-34E3-4B53-BE3C-6A880366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F8143-BE88-43E0-9CFB-168EF63E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9F259-BD45-4111-9923-06C2B150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7FC1A-C512-4EC5-B724-6FDA1B33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4854D-34BE-447B-B40A-7D80629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34203-A56D-494B-92E5-EA913BD0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E2F-838B-4724-B4AB-3F2E6EF7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0AB7B-EC6E-4FEC-85FA-AD749CA1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3E6B4-DEF7-4E4B-8EFA-4DD2963A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051FA-1759-46DD-B205-4A4B3222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C41EF-1EE7-4C85-816E-A352A689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C506D-B209-426E-B7A6-B1F0AB37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83886-7319-44F6-A522-46016BCD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B9E2B-F526-4E12-8E7D-1A9EFDCB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FFD66-C171-48E4-BC00-D7836D2B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5D524-43CE-4B99-9526-6A564A8E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A7B7B-BE17-4809-9F19-EB051C90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E3C-E721-4962-A3CC-CB029ABB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C6FEA-CEDB-4390-91B1-26E715A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1C991-FEC8-40C1-A7BD-7141F5D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DC2AD-AE0A-4DEE-AF61-A647C4D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0F355-0A26-4D83-943B-3888811E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FE4D9-12D9-40B4-BDF5-406F4F30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AEB0-B971-4491-B926-D6FF28BC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E9B90-337A-4B1D-9AC2-9C6EA58F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D77E2-CA84-4556-A663-19F5AC02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83D7A-13C8-4B2E-8E91-8039049C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8C930-FB75-47CF-A737-7BB8252D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C14-F22E-4ED0-AA21-06EC3011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1DD24-0C71-47DB-9B2F-0F6E2BA5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82052-731B-4726-B391-F9DA4699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436FA-4986-4EA6-AF5A-D8942216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2DCF4-09FE-431D-B254-6350719F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B6E96-40FC-4A95-BA4E-BD9BB975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A2D44-3A29-4002-BA00-676C07FF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0D18B-540A-4FDF-BB94-F3D05C67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101F5-840E-4CE6-8EEA-4D0D33C3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98EF3-33B0-4659-8D3D-2BA610CE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5AC94-F1BB-4AF3-B5D6-B290046B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rojecto Suporte Institucional ao MINAG implementada pela G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9895-A36D-4382-A1BB-E49840674C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4BE6-C816-4A27-AE3D-4801D2EDD3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F375-93A7-442A-90F4-0A67B9A1AD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9BBB-6A62-4C3E-80DD-58EA9F5537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EA10-0421-434E-9141-3258223CF3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01C7-DA64-41C1-A666-A92C39118D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CC1D-5965-4099-90AF-2D0408B137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78FE-1A68-4BE7-B43C-4DA64B9F55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rojecto Suporte Institucional ao MINAG </a:t>
            </a:r>
            <a:br>
              <a:rPr sz="1100"/>
            </a:br>
            <a:r>
              <a:rPr b="0" lang="de-DE" sz="1000" spc="-1" strike="noStrike">
                <a:solidFill>
                  <a:srgbClr val="898989"/>
                </a:solidFill>
                <a:latin typeface="Calibri"/>
              </a:rPr>
              <a:t>implementada pela GF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7F4D-2019-4D0D-8256-7E3D0100BA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BA8B-99DB-4514-9647-07302ED08A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E4FE-6543-482E-9777-9A2D65B736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3E64-CCD4-4FC5-A32E-43462B06CC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EBB3-EE9E-4FE5-9112-2C9D68B1D6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C4DD-DF20-426B-BEE0-676F18DBC0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feld 3"/>
          <p:cNvSpPr/>
          <p:nvPr/>
        </p:nvSpPr>
        <p:spPr>
          <a:xfrm>
            <a:off x="1042920" y="1484280"/>
            <a:ext cx="7380360" cy="64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0000"/>
                </a:solidFill>
                <a:latin typeface="Calibri"/>
              </a:rPr>
              <a:t>Lidera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Calibri"/>
              </a:rPr>
              <a:t>Seminário para o MIN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Local 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ia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Grafik 2" descr="leadership.jpg"/>
          <p:cNvPicPr/>
          <p:nvPr/>
        </p:nvPicPr>
        <p:blipFill>
          <a:blip r:embed="rId1"/>
          <a:stretch/>
        </p:blipFill>
        <p:spPr>
          <a:xfrm>
            <a:off x="3635280" y="3068640"/>
            <a:ext cx="14637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3816360"/>
          </a:xfrm>
          <a:prstGeom prst="rect">
            <a:avLst/>
          </a:prstGeom>
          <a:ln w="0">
            <a:noFill/>
          </a:ln>
        </p:spPr>
      </p:pic>
      <p:sp>
        <p:nvSpPr>
          <p:cNvPr id="625" name="Textfeld 9"/>
          <p:cNvSpPr/>
          <p:nvPr/>
        </p:nvSpPr>
        <p:spPr>
          <a:xfrm>
            <a:off x="3201480" y="148428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Calibri"/>
              </a:rPr>
              <a:t>Tarefas dos Líde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334120" cy="4276440"/>
          </a:xfrm>
          <a:prstGeom prst="rect">
            <a:avLst/>
          </a:prstGeom>
          <a:ln w="0">
            <a:noFill/>
          </a:ln>
        </p:spPr>
      </p:pic>
      <p:sp>
        <p:nvSpPr>
          <p:cNvPr id="627" name="Textfeld 4"/>
          <p:cNvSpPr/>
          <p:nvPr/>
        </p:nvSpPr>
        <p:spPr>
          <a:xfrm>
            <a:off x="3144960" y="141300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Calibri"/>
              </a:rPr>
              <a:t>Estilos de Lide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48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91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Inhaltsplatzhalter 5" descr=""/>
          <p:cNvPicPr/>
          <p:nvPr/>
        </p:nvPicPr>
        <p:blipFill>
          <a:blip r:embed="rId1"/>
          <a:stretch/>
        </p:blipFill>
        <p:spPr>
          <a:xfrm>
            <a:off x="2138400" y="1600200"/>
            <a:ext cx="4867200" cy="4525920"/>
          </a:xfrm>
          <a:prstGeom prst="rect">
            <a:avLst/>
          </a:prstGeom>
          <a:ln w="158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ercí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efinir objectivos tipo SMART(1 pagina, 250 palavras) para um colaborador concreto (20 Minu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imulação de 2 até 3 encontros com colaboradores  com o fim de criar acordos de desempenho com os colaboradores (nem só homens ou nem só mulheres no papel dum che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iscussão da simulação no plen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7:26:37Z</dcterms:created>
  <dc:creator>bboetius</dc:creator>
  <dc:description/>
  <dc:language>en-US</dc:language>
  <cp:lastModifiedBy>bboetius</cp:lastModifiedBy>
  <dcterms:modified xsi:type="dcterms:W3CDTF">2012-02-01T14:54:00Z</dcterms:modified>
  <cp:revision>267</cp:revision>
  <dc:subject/>
  <dc:title>Folie 1</dc:title>
</cp:coreProperties>
</file>